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2D625-19F7-47EC-9C1D-334923785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F6E85-76A4-4089-BA93-7699BD427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248B7-BFDD-49C3-AF34-B5DC9C470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33586-67EA-4542-BC62-FA8EB8CDE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BCACF-2947-4685-B3DC-2B98FEE25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F7B02-F334-4255-886F-6092C957F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62F91-DC6E-4766-8A1E-ACE7BE798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14420-5566-475D-98BF-B1D4D2B15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AFB7C-17CA-473C-BF54-0D30BBF91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83300-1BDB-47CD-9B41-EA75F688F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CA30E-BDA7-4576-9440-1FE19A19C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9F7A2-2907-46DF-B6E2-997FE155C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1D52B-A359-492F-8EE5-727D5ACF08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9999"/>
                </a:solidFill>
                <a:latin typeface="Times New Roman"/>
              </a:rPr>
              <a:t>Vascular closer devices</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Endovascular procedures require large bore introducers (up to 26F). Percutaneous insertion can be very useful to speed up the procedure (very important in acute cases) and reduce the closing time (less personell, less time).</a:t>
            </a:r>
            <a:endParaRPr b="0" lang="en-US" sz="2800" spc="-1" strike="noStrike">
              <a:solidFill>
                <a:srgbClr val="000000"/>
              </a:solidFill>
              <a:latin typeface="Arial"/>
            </a:endParaRPr>
          </a:p>
          <a:p>
            <a:pPr marL="343080" indent="-34308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Most important the shortening of hospital stay and extreme patient tollerance</a:t>
            </a:r>
            <a:endParaRPr b="0" lang="en-US" sz="2800" spc="-1" strike="noStrike">
              <a:solidFill>
                <a:srgbClr val="000000"/>
              </a:solidFill>
              <a:latin typeface="Arial"/>
            </a:endParaRPr>
          </a:p>
        </p:txBody>
      </p:sp>
      <p:pic>
        <p:nvPicPr>
          <p:cNvPr id="43" name="" descr=""/>
          <p:cNvPicPr/>
          <p:nvPr/>
        </p:nvPicPr>
        <p:blipFill>
          <a:blip r:embed="rId1">
            <a:lum bright="70000" contrast="-70000"/>
          </a:blip>
          <a:stretch/>
        </p:blipFill>
        <p:spPr>
          <a:xfrm>
            <a:off x="8101080" y="5877000"/>
            <a:ext cx="774720" cy="771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1T14:40:45Z</dcterms:created>
  <dc:creator>Nadia Mollichelli</dc:creator>
  <dc:description/>
  <dc:language>en-US</dc:language>
  <cp:lastModifiedBy>Nadia Mollichelli</cp:lastModifiedBy>
  <dcterms:modified xsi:type="dcterms:W3CDTF">2007-06-11T14:45:57Z</dcterms:modified>
  <cp:revision>3</cp:revision>
  <dc:subject/>
  <dc:title>Diapositiva 1</dc:title>
</cp:coreProperties>
</file>